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8CB6D-93E5-41DB-BF8E-0F3C8F55F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87D3F-BE08-48F9-9CBF-27EC2E117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8F82C-A790-460B-8C60-E36C0C149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8BA5B-979B-4314-8956-6A8719A59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E30CF-9193-4B86-BF86-6D26CA1CA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39744-178B-413E-9F34-EFD689FC2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053F2-EC1E-4C47-B92D-AFCFE39D0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CE0A3-9F64-454C-B002-8E77E2401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A4CBE-FA7C-415E-A4B2-CD1B00AAD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42FAF-04DF-4008-8729-EB31A79CF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FB0FB-D2E4-4777-B182-69D13DAC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C37B2-8EAC-4FF7-A713-B887E803E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F1031-0846-45F7-AF16-5E7AD6EA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48CE5-CB0A-407E-B068-B4C7BC9C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EE71F-61CF-4179-8374-AD826B5BA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2C94F-91B6-443D-BAB7-94A3D371B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B55E4-2CE8-49BB-A10A-9E21992DC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819E8-9231-44C1-ABCA-D5ED9D4EB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6BA9A-C383-4D9F-B4B5-F85D57C10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C9BF6-9D31-4147-B8A1-3CB423B01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B5B87-5A88-4CF1-864B-EC1DFF2F1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A93F9-A006-465D-9358-D1C8D33B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FC38A-8107-4943-9C53-70EFB87A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076A4-42BB-49BC-A2FC-C65680B4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5340C-B433-4F75-A473-BE3F9212F6B6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7D9AC-D63F-4742-B0B2-A410D7439B8F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1087560" y="750240"/>
            <a:ext cx="112791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6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66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лилуя! Светло утро - 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хубав спомен от Едем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нес сме ние от труд свободни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ъбота е мирен ден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светен от Бога, той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оси радост и покой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79280" y="1615320"/>
            <a:ext cx="8964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ъв този свят съботен час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ълен с едемски покой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оже, чуй Ти нашия глас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сътвувай между нас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лагослови всички ни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 Духа Си ни изпълн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025280" y="1184760"/>
            <a:ext cx="6760440" cy="44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одкрепи учителите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омажи им устните;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свети слушателите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 да вярват думите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ърху песни и молби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воя "Амин" Ти каж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213840" y="1184760"/>
            <a:ext cx="8381880" cy="44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4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омогни деня да свършим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акто го започнахме;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олята Ти ние да вършим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Господарю съботни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ъбота да пазим дай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ук и после в вечний рай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4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11-20T07:37:23Z</dcterms:modified>
  <cp:revision>21</cp:revision>
  <dc:subject/>
  <dc:title>Slide 1</dc:title>
</cp:coreProperties>
</file>